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A69-F282-4E3A-B6F6-5C453D06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08D-1FCE-46C8-94D6-E819E711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F28-BA62-439B-A69C-7B1534BC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5A4-8DD2-4AC5-B251-EB3E4206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239-FC76-4590-B210-C8EC88AF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A3CE-3087-4241-B7BA-8CF124A0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6F39-644A-47A6-B0D7-450884EA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01F-6F80-46BA-BD4C-221ECF7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893-AB74-42FD-AE0A-3AAA16A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B7BF-DAC9-4F27-8D57-166FB5F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3620-F3B3-4CC7-ABED-3505B8FC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F13-D1DE-4648-A353-CEFB3502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380E-3C22-4A4E-9173-2F91ED5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1F10-D531-48AE-BE88-722E561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897-0C01-424A-BCE6-8420BBE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60F0-D0D7-462C-846D-8DEB0E2C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9EA-C5A8-4C73-B84C-3E4D4653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46A-CD1D-46D7-8383-570B762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71D-22FA-4854-8F61-45A24D8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7C4-3873-4390-AA9C-F4DDCC0D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D4F-2B49-4C83-9097-0D436D00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6A7-7816-447E-AF94-8ABC72D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B86-7EEC-408A-AAB1-F053A01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AB1-951A-4B3A-8056-BB1CE38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441-0FCF-4787-AD87-6F2F2C93A4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CF2-5293-40C2-8A84-8157EB50E5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smsc.gov.ua/" TargetMode="External"/><Relationship Id="rId3" Type="http://schemas.openxmlformats.org/officeDocument/2006/relationships/hyperlink" Target="http://www.rada.gov.ua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aib.com.ua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lex@shestopalov.kiev.ua" TargetMode="External"/><Relationship Id="rId3" Type="http://schemas.openxmlformats.org/officeDocument/2006/relationships/hyperlink" Target="mailto:alex@sma.ua" TargetMode="External"/><Relationship Id="rId4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не забезпечення для складання місячних адміністративних даних торговця цінними папер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Олексій Шестопал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розробник програмного продукту «АФР-ТЦП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. Київ, 20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міс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Нормативні докумен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Нововведен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актичні навички щодо подання дани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Нормативні докумен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ложення про порядок складання та подання адміністративних даних щодо діяльності торговців цінними паперами до Національної комісії з цінних паперів та фондового ринку, затверджено Рішенням НКЦПФР №1283 від 25.09.2012р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і змінами відповідно до Рішення №247 від 26.02.2013р. (з 12.04.2013р.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оложення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щодо пруденційних нормативів професійної діяльності на фондовому ринку - діяльності з торгівлі цінними паперами, затверджено Рішенням НКЦПФР №1900 від 25.12.2012р. (з 08.02.2013р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Публічні джере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nsmsc.gov.u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rada.gov.u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овідникові системи (Ліга-Закон тощ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Нововведенн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одання до 10-го числа місяця наступного за звітнім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формальний обов’язок подавати банками щомісячні дані у складі дод.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формація …, готується … на підставі даних бухгалтерського обліку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жерело більшості значень є бухгалтерія, а не бек-офіс ТЦП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обхідність зваження ЦП в залежності від допущення до торгів на ФБ, включення до лістингу ФБ та біржового курсу ЦП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обхідність визначення ЦП недиверсифікованих ІСІ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Практичні навич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Використання файлів УАІБ щодо біржового курсу на ЦП (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uaib.com.u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Розрахунок показників: Головне меню </a:t>
            </a:r>
            <a:r>
              <a:rPr b="0" lang="uk-UA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Місячні дані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починаючи з “квітня 2013 р.”) </a:t>
            </a:r>
            <a:r>
              <a:rPr b="0" lang="uk-UA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Додатки дани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Перенесення даних бух.обліку зі зовнішніх джерел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: Ctrl+C/Ctrl+V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або використовуюч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ML 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файл обміну відповідно до схем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%AFRTCP%\Schemas\PrudenLiq\PrudenLiq.xsd) 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щод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фактично сплачений статутний капіта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резервний капіта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емісійний дохід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нерозподілений прибуток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строчена понад 31 день деб. заборговані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матеріальні активи за залишковою вартістю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пітальні вкладення у нематеріальні актив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непокриті збитк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інвестиції в асоційовані та дочірні компанії (крім АТ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відстрочені податкові актив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гудвіл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інший вкладений капіта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дооцінка активі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ГК в нац.валюті (грн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ГК в іноз.валюті (грн.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Практичні навич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зрахунок показників відповідно до розрахованого, зваженого на ризик та збереженого портфелю ТЦП на дату, а саме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алансова вартість ЦП поз фонд.біржою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екселі одержані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алансова вартість ЦП недиверс. ІСІ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тиви зважені на ризик</a:t>
            </a:r>
            <a:r>
              <a:rPr b="0" lang="uk-UA" sz="1400" spc="-1" strike="noStrike">
                <a:solidFill>
                  <a:srgbClr val="000000"/>
                </a:solidFill>
                <a:latin typeface="Verdana"/>
              </a:rPr>
              <a:t> (ЦП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точні ФІ у складі Р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значення коефіцієнта зваження відповідно д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ипу ЦП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явності ЦП у БД УАІБ на дату (допущена до торгів, знаходиться у лістингу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відника користувач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цінка ЦП відповідно до поточного біржового курсу (за необхідності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Дякую за увагу.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и маєте можливість завантажити презентацію використовуючи посилання http://link.ac/vx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229360"/>
            <a:ext cx="800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Шестопалов Олексі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ex@shestopalov.kiev.u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alex@sma.u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9:14:03Z</dcterms:created>
  <dc:creator>Admin</dc:creator>
  <dc:description/>
  <dc:language>en-US</dc:language>
  <cp:lastModifiedBy>Admin</cp:lastModifiedBy>
  <dcterms:modified xsi:type="dcterms:W3CDTF">2013-04-28T23:10:54Z</dcterms:modified>
  <cp:revision>12</cp:revision>
  <dc:subject/>
  <dc:title>Слайд 1</dc:title>
</cp:coreProperties>
</file>