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604-F578-4B77-83E6-DE2292487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143-9CCB-422F-AFE3-41B70D7C8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894F-2F4F-40FA-B943-E3292C3E4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1C6C-D712-4C86-812E-2936900AA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335F-3A4F-4BAB-9DB9-5B80AD5A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AB91A-407C-4F27-8D56-E2D66442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F006-CA54-471B-A4B1-5E86BE85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9025-8A17-4674-849F-F0ED7886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1168-5AA5-4497-8D89-4B658208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25A-7A94-48EF-A0DE-86F69530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3AC9-7440-4414-9DAC-21E7C86F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CCF1-336D-4EE4-95A7-752B48032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574D-7F85-4929-90E3-310D1FF0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0412-E862-4631-BF36-E6313CB4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4A1C-951A-4E44-8B65-301B520D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8FDA-FC28-4E17-89D0-CFE70654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FB2D-DE89-4861-AF67-20AA9601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562-DEA1-46CC-AF6E-88A5B5EB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719-6BFC-4D8A-BEE5-8025F9EE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B2E-D23C-4BF3-977C-392C314CA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2C16-A0BE-4BAA-803C-6D4E3E55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68A4-F3F9-4E42-85E4-D5F5610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AA02-FA24-49C0-A65E-9725AAEA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A0A9-B2F7-4CBD-B0BF-A669A459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1BF0-52BF-4636-A28A-ACAF0AB751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6B38-8E37-44D6-85D4-8E4D4FB13CA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3850920" y="3886200"/>
            <a:ext cx="460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Arial"/>
              </a:rPr>
              <a:t>Устенко Ірина Ігорі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аступник директора департаменту регулювання діяльності торговців цінними паперами та фондових бірж НКЦПФ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08000" y="8244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87120" y="277920"/>
            <a:ext cx="6799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8000" y="1484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ЗУ 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ід 04.07.2012 №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5042-VI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uk-UA" sz="3000" spc="-1" strike="noStrike">
                <a:solidFill>
                  <a:srgbClr val="ffffff"/>
                </a:solidFill>
                <a:latin typeface="Arial"/>
              </a:rPr>
              <a:t>Прикінцеві та перехідні положення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, п. 5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роф. учасники зі строковими ліцензіями провадять діяльність до закінчення строку їх дії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ісля закінчення строку – за умови отримання нової безстрокової ліцензії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проф. учасники з безстроковою ліцензією до 01.01.2015 мають подати до НКЦПФР пакет документів згідно п. 2-13 ч. 2 ст. 27</a:t>
            </a:r>
            <a:r>
              <a:rPr b="0" lang="uk-UA" sz="29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 ЗУ «Про ЦП та ФР». </a:t>
            </a:r>
            <a:r>
              <a:rPr b="0" lang="uk-UA" sz="2900" spc="-1" strike="noStrike">
                <a:solidFill>
                  <a:srgbClr val="ffff00"/>
                </a:solidFill>
                <a:latin typeface="Arial"/>
              </a:rPr>
              <a:t>Неподання – підстава для застосування санкцій</a:t>
            </a:r>
            <a:r>
              <a:rPr b="0" lang="uk-UA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26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87120" y="277920"/>
            <a:ext cx="6799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Ліцензування діяльності з торгівлі цінними паперам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У «Про цінні папери та фондовий ринок», стаття 27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«Ліцензування професійної діяльності на фондовому ринку» та 27</a:t>
            </a:r>
            <a:r>
              <a:rPr b="0" lang="ru-RU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«Підстави для відмови у видачі ліцензії …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33480"/>
            <a:ext cx="17794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19280" y="277920"/>
            <a:ext cx="7067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тро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що ліцензіат має намір продовжувати діяльність після закінчення строку дії ліцензії, необхідно подати документи до НКЦПФР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е раніше, ніж за 6 мі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КЦПФР </a:t>
            </a: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має право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(але не зобов'язана) розглядати документи заявника 3 міс., а якщо серед власників є іноземні особи – 6 міс., повернення без розгляду – 1 мі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7920" y="3492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ffff"/>
                </a:solidFill>
                <a:latin typeface="Arial"/>
              </a:rPr>
              <a:t>Порядок та умови видачі ліцензії (Ріш. НКЦПФР № 817 від 14.05.2013 р.), п. 3 Розділу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Новостворені ТЦП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 ліцензія (Б/Д/А/У) – пов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 або більше (Б+/Д+/А+/У) – одна заява на декілька видів + повний пак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4920" y="44280"/>
            <a:ext cx="1779480" cy="822600"/>
          </a:xfrm>
          <a:prstGeom prst="rect">
            <a:avLst/>
          </a:prstGeom>
          <a:ln w="0">
            <a:noFill/>
          </a:ln>
        </p:spPr>
      </p:pic>
      <p:sp>
        <p:nvSpPr>
          <p:cNvPr id="226" name="Стрелка вправо 3"/>
          <p:cNvSpPr/>
          <p:nvPr/>
        </p:nvSpPr>
        <p:spPr>
          <a:xfrm>
            <a:off x="6948360" y="5661000"/>
            <a:ext cx="1656000" cy="64764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000" y="270000"/>
            <a:ext cx="72817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 u="sng">
                <a:solidFill>
                  <a:srgbClr val="ffffff"/>
                </a:solidFill>
                <a:uFillTx/>
                <a:latin typeface="Arial"/>
              </a:rPr>
              <a:t>Діючі ліцензіа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епозитарна установ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1, 2 або більше ліцензій ТЦП (Б+/Д+/А+/У) – скороче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орговець цінними папер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, 2 або більше ліцензій ТЦП (Б+/Д+/А+/У) – скорочений пакет документі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92000" y="277920"/>
            <a:ext cx="69944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рядок видачі ліцензій</a:t>
            </a:r>
            <a:br>
              <a:rPr sz="4400"/>
            </a:b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акет документ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кщо ТЦП має діючі ліцензії, які отримав за скороченим пакетом, то для отримання ліцензії на інші види діяльності подається повний пакет документі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17640" y="54000"/>
            <a:ext cx="17794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Arial"/>
              </a:rPr>
              <a:t>Дякую за увагу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Arial"/>
              </a:rPr>
              <a:t>Запитанн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2T09:22:31Z</dcterms:created>
  <dc:creator>sergey.lastivka</dc:creator>
  <dc:description/>
  <dc:language>en-US</dc:language>
  <cp:lastModifiedBy>Лапшова Елена</cp:lastModifiedBy>
  <dcterms:modified xsi:type="dcterms:W3CDTF">2013-07-12T06:29:08Z</dcterms:modified>
  <cp:revision>25</cp:revision>
  <dc:subject/>
  <dc:title>Процес підготовки проекту РА НКЦПФР</dc:title>
</cp:coreProperties>
</file>