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6198-0C66-45AC-B64E-0BE841A3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550-BC63-4685-850C-4C44FA47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D7DE-2956-4E35-A928-E1C60049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F792-63D0-46EB-B710-823CFD93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553CC-45F4-4CF7-BE15-586C97FB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7922-345C-42C3-8450-B264F932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0D4A-B31B-4EA9-A97B-76BE5F9B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A061-5373-4FA8-B698-861742D2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2B28-62FF-4920-B310-F6971E97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D4426-DD01-4D40-BB21-2507605D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A5428-8462-47C1-A7C6-446E6C3A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F013-01C7-4EBB-AEDC-B7ECB9C7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510A-F5FB-4633-9F66-72047934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1C7C-43B8-42CE-8CE9-88EB7181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60E1-3B50-4EE0-9B55-9E97B93E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6C253-8346-4A39-A3CF-6F2BCF7CC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20E4-FAF8-4DEB-80C8-0EEF4533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2968-FD3D-4733-9974-64726927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D90-5401-4C87-A2D8-864253D22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3E9B-1986-44AF-9E90-C4D687ED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6C5-F676-4964-8E5B-E2C51133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928-B3D4-4AA3-B9CD-97EE6CAB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129D-DB7B-4E17-8F57-6A150C33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7297-49EE-4011-ADBF-9142981F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F0D7-D01E-4479-887B-0CCC1692D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6458-D232-45ED-96FC-FB77A78A4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1773360"/>
            <a:ext cx="77724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Ліцензування професійної діяльності в умовах нового законодавст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3360" cy="9000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19640" y="4292640"/>
            <a:ext cx="36734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ccecff"/>
                </a:solidFill>
                <a:latin typeface="Arial"/>
              </a:rPr>
              <a:t>Сальчук Оксана Анатоліївна</a:t>
            </a: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Заступнику Директора Департаменту регулювання депозитарної та розрахунково-клірингової діяльності НКЦПФ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07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Внутрішні положення заявника, що подаються для отримання ліцензії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197000"/>
            <a:ext cx="86421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Копія Порядку здійснення внутрішнього аудиту (контролю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(банками не надається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0920" y="2276640"/>
            <a:ext cx="8642160" cy="3600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кумент має відповідати вимогам, встановленим Положенням про особливості організації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та проведення внутрішнього аудиту (контролю) в професійних учасниках фондового ринку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твердженим рішенням Національної комісії з цінних паперів та фондового ринку від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19.07.2012 № 996 (крім банку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кумент може містити такі розділ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цілі служби внутрішнього аудиту (контролю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сновні завдання та функції служби внутрішнього аудиту (контролю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ринципи діяльності служби внутрішнього аудиту (контролю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статус і роль служби внутрішнього аудиту (контролю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рава та обов'язки служби внутрішнього аудиту (контролю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бсяги та напрями роботи служби внутрішнього аудиту (контролю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бов'язки посадової особи служби внутрішнього аудиту (контролю) із звітуванн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оординація діяльності з іншими службами ліцензіат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ідзвітність служби внутрішнього аудиту (контролю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07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Внутрішні положення заявника, що подаються для отримання ліцензії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1197000"/>
            <a:ext cx="86421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Копія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нутрішнього документу, що визначає систему управління ризик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ffffff"/>
                </a:solidFill>
                <a:latin typeface="Arial"/>
              </a:rPr>
              <a:t>(банками не надається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2349360"/>
            <a:ext cx="8642160" cy="3313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кумент повинен містити, зокрема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изначення видів ризиків, які виникають при провадженні депозитарної діяльності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рядок виявлення ризик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методи вимірювання та оцінювання ризик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ходи щодо зниження ризиків, що полягають у запобіганні та мінімізації впливу ризик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рядок та умови застосування відповідних заходів щодо зниження ризикі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ходи з моделювання та прогнозування процесів та майбутніх результатів діяльності особ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що провадить депозитарну діяльність, на основі аналізу інформації та оцінки ризикі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нутрішній документ, що визначає систему управління ризиками при провадженн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епозитарної діяльності, має також відповідати вимогам Положення щодо пруденційн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ормативів професійної діяльності на фондовому ринку – депозитарної діяльності та вимог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 системи управління ризиками, затвердженого рішенням Національної комісії з цінн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аперів та фондового ринку від 15.01.2013 № 3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0716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Вимоги до структури власності заявника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250920" y="1197000"/>
            <a:ext cx="8642160" cy="129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 статутному капіталі депозитарної установи частка іншої депозитарної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станови, торговця цінними паперами або інституційного інвестор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не повинна становити більше 5 відсотк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3068640"/>
            <a:ext cx="8642160" cy="2952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Інституційними інвесторами є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- інститути спільного інвестування (пайові та корпоративні інвестиційні фонд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- інвестиційні фонд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- взаємні фонди інвестиційних компані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- недержавні пенсійні фонд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- фонди банківського управлінн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- страхові компанії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інші фінансові установи, які здійснюють операції з фінансовими активами в інтересах треті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сіб за власний рахунок чи за рахунок цих осіб, а у випадках, передбачених законодавством, -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також за рахунок залучених від інших осіб фінансових активів з метою отримання прибутк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або збереження реальної вартості фінансових активів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277560"/>
            <a:ext cx="670716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Підстави для відмови у видачі ліцензії на провадження певного виду професійної діяльності на фондовому ринку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250920" y="1052640"/>
            <a:ext cx="8713800" cy="3960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КЦПФР відмовляє у видачі ліцензії на провадження певного виду професійної діяльност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а фондовому ринку, якщ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окументи, подані для видачі ліцензії, містять недостовірну інформацію та/або н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ідповідають вимогам законодавств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2) ділова репутація хоча б однієї посадової особи юридичної особи, яка має намір провади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рофесійну діяльність на фондовому ринку, та/або керівника служби внутрішнього аудит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контролю) та/або учасників (акціонерів) з істотною участю такої особи не відповідає вимогам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становленим Національною комісією з цінних паперів та фондового ринк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3) структура власності юридичної особи не відповідає вимогам закону та нормативно-правов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актів Національної комісії з цінних паперів та фондового ринку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4) організаційна структура, спеціалісти, необхідні для провадження професійної діяльності 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фондовому ринку, або обладнання, комп'ютерна техніка, програмне забезпеченн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риміщення такої юридичної особи не відповідають вимогам, установленим Національно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омісією з цінних паперів та фондового ринк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5445000"/>
            <a:ext cx="8642160" cy="1224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 разі відмови у видачі ліцензії, реєстрації внутрішніх документів (змін до них) на підстав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иявлення недостовірних даних у документах, поданих заявником на видачу ліцензії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реєстрацію внутрішніх документів (змін до них), він може подати до Комісії нову заяву пр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идачу ліцензії, про реєстрацію внутрішніх документів (змін до них) не раніше ніж через тр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місяці з дати прийняття рішення про відмову у видачі ліцензії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340000" y="277920"/>
            <a:ext cx="63468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Залишення заяви про видачу ліцензії без розгляду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50920" y="1484280"/>
            <a:ext cx="8713800" cy="4608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омісія повертає заявнику заяву про видачу ліцензії та відповідні документи без розгляду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якщо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1) заява підписана особою, яка не має на це повноважень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2) документи, що додаються до заяви, оформлені з порушенням вимог, установлених ци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рядком та умова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3) наданий неповний перелік документів та/або не надана електронна форма, що надаєть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 допомогою автоматизованої системи, розміщеної на офіційному веб-сайті Комісії згідно з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цими Порядком та умовам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4) у Комісії на дату подання заяви про видачу ліцензії або у період її розгляду наявне судов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рішення, що забороняє видачу ліцензії заявнику, та/або постанова про відкриття виконавч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ровадження щодо виконання такого рішенн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5) відомостей про заявника немає в Єдиному державному реєстрі юридичних осіб і фізичн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сіб - підприємців або наявні відомості про перебування юридичної особи у стані припиненн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чи про державну реєстрацію її припиненн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Запитанн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35280" y="260280"/>
            <a:ext cx="5473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Вимоги до установчих документів</a:t>
            </a:r>
            <a:r>
              <a:rPr b="0" lang="uk-UA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73360" cy="900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403280" y="1484280"/>
            <a:ext cx="677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1280" y="1557360"/>
            <a:ext cx="8208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3500280"/>
            <a:ext cx="8208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1484280"/>
            <a:ext cx="8137440" cy="1008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Установчі документи заявника повинні передбачати здійсненн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ідповідного виду депозитарної діяльності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3357720"/>
            <a:ext cx="8137440" cy="1152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Вказані вимоги до установчих документів набирають чинності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30 квітня 2014 рок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908000" y="260280"/>
            <a:ext cx="547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Приклад редакції установчих документів заявника</a:t>
            </a:r>
            <a:r>
              <a:rPr b="0" lang="uk-UA" sz="16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640" y="1916280"/>
            <a:ext cx="8137800" cy="47527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«Товариство може здійснювати такі види діяльності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епозитарну діяльність, а сам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берігання та обслуговування обігу цінних паперів 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рахунках у цінних паперах та операці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емітента щодо випущених них цінних папер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депозитарну діяльність зберігача цінних папері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ведення реєстрів власників іменних цінних папері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епозитарну діяльність депозитарної установ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іяльність із зберігання активів інститутів спільного інвестуванн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- діяльність із зберігання активів пенсійних фонді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197000"/>
            <a:ext cx="813780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Стату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6" name=""/>
          <p:cNvCxnSpPr>
            <a:stCxn id="225" idx="2"/>
            <a:endCxn id="224" idx="0"/>
          </p:cNvCxnSpPr>
          <p:nvPr/>
        </p:nvCxnSpPr>
        <p:spPr>
          <a:xfrm>
            <a:off x="4608000" y="1628280"/>
            <a:ext cx="1080" cy="28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07640" y="260280"/>
            <a:ext cx="569916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Вимоги щодо сертифікованих осіб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08000" y="1052640"/>
            <a:ext cx="5400720" cy="576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бов'язково підлягають сертифікації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2133720"/>
            <a:ext cx="4319640" cy="4390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За спеціалізацією депозитар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діяльність + діяльність з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управління активами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(виключно дл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осіб, що планують отрима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ліцензію на зберігання активів ІСІ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та/або зберігання активів ПФ)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1. Керівник підрозділу, якому надані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овноваження щодо здійсненн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іяльності із зберігання активів ІСІ/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зберігання активів П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2. Фахівець в підрозділі, якому надані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овноваження щодо здійсненн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іяльності із зберігання активів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ІСІ/ зберігання активів ПФ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0" y="2133720"/>
            <a:ext cx="4321080" cy="4390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За спеціалізацією депозитар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 u="sng">
                <a:solidFill>
                  <a:srgbClr val="ffffff"/>
                </a:solidFill>
                <a:uFillTx/>
                <a:latin typeface="Arial"/>
              </a:rPr>
              <a:t>діяльніст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Керівні посадові особи депозитарної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установи (у тому числі банку)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його відокремлених підрозділів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яким надані повноваження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щодо провадження депозитарної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іяльності депозитарної устано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(Визначення керівних посадов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осіб згідно рішення ДКЦПФР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ffff"/>
                </a:solidFill>
                <a:latin typeface="Arial"/>
              </a:rPr>
              <a:t>від 05.01.1999 року № 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2. Фахівці депозитарної установ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її відокремлених та/аб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спеціалізованих структурн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підрозділів, які безпосереднь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здійснюють депозитарну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діяльність депозитарної установ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29" idx="2"/>
            <a:endCxn id="230" idx="0"/>
          </p:cNvCxnSpPr>
          <p:nvPr/>
        </p:nvCxnSpPr>
        <p:spPr>
          <a:xfrm flipH="1">
            <a:off x="2339280" y="1628280"/>
            <a:ext cx="2269080" cy="505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9" idx="2"/>
            <a:endCxn id="231" idx="0"/>
          </p:cNvCxnSpPr>
          <p:nvPr/>
        </p:nvCxnSpPr>
        <p:spPr>
          <a:xfrm>
            <a:off x="4608000" y="1628280"/>
            <a:ext cx="2125080" cy="505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7640" y="277560"/>
            <a:ext cx="66963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Мінімальні вимоги щодо кількості сертифікованих осіб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63416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Ліцензія на здійснення депозитарної діяльності ДУ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5640" y="2708280"/>
            <a:ext cx="3600360" cy="352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ffff"/>
                </a:solidFill>
                <a:uFillTx/>
                <a:latin typeface="Arial"/>
              </a:rPr>
              <a:t>Небанківська уста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заяв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менше 3 сертифікован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фахівців (у тому числ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ерівні посадові особи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відокремленого підрозділ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менше 2 фахівц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у тому числі кері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садова особа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2708280"/>
            <a:ext cx="3600360" cy="3529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ffff"/>
                </a:solidFill>
                <a:uFillTx/>
                <a:latin typeface="Arial"/>
              </a:rPr>
              <a:t>Ба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заяв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менше 4 сертифікован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фахівців (у тому числ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керівні посадові особ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відокремленого підрозділу: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менше 2 фахівц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(у тому числі керів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садова особа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6" idx="2"/>
            <a:endCxn id="237" idx="0"/>
          </p:cNvCxnSpPr>
          <p:nvPr/>
        </p:nvCxnSpPr>
        <p:spPr>
          <a:xfrm flipH="1">
            <a:off x="2555640" y="2349000"/>
            <a:ext cx="201816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6" idx="2"/>
            <a:endCxn id="238" idx="0"/>
          </p:cNvCxnSpPr>
          <p:nvPr/>
        </p:nvCxnSpPr>
        <p:spPr>
          <a:xfrm>
            <a:off x="4573440" y="2349000"/>
            <a:ext cx="201528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7640" y="277560"/>
            <a:ext cx="66963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Мінімальні вимоги щодо кількості сертифікованих осіб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63452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Ліцензії на здійснення депозитарної діяльності ДУ та діяльності із зберігання активів ІСІ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844640"/>
            <a:ext cx="4321080" cy="4824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ffff"/>
                </a:solidFill>
                <a:uFillTx/>
                <a:latin typeface="Arial"/>
              </a:rPr>
              <a:t>Небанківська устан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заяв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е менше 4 сертифікованих фахівці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у тому числі керівні посадові особи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 спеціалізацією депозитар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іяльність, в тому числі 2 особ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керівник підрозділу по зберіганн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активів ІСІ та фахівець у вказаном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ідрозділі) повинні мати сертифіка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а спеціалізацією – діяльність з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правління актив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відокремленого підрозділ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е менше 3 фахівців (у тому числі керів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садова особа) за спеціалізаціє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епозитарна діяльність, в тому числі 2 особ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керівник підрозділу по зберіганню активів ІС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та фахівець у вказаному підрозділі) повинн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мати сертифікати за спеціалізацією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іяльність з управління активам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1844640"/>
            <a:ext cx="4286520" cy="48243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ffff"/>
                </a:solidFill>
                <a:uFillTx/>
                <a:latin typeface="Arial"/>
              </a:rPr>
              <a:t>Ба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заяв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е менше 5 сертифікованих фахівців (у том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числі керівні посадові особи) з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спеціалізацією депозитарна діяльність, 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тому числі 2 особи (керівник підрозділу п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зберіганню активів ІСІ та фахівець 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казаному підрозділі) повинні ма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сертифікати за спеціалізацією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іяльність з управління актива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відокремленого підрозділ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Не менше 3 фахівців (у тому числі керів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посадова особа) за спеціалізаціє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епозитарна діяльність, в тому числі 2 особ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керівник підрозділу по зберіганню активів ІС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та фахівець у вказаному підрозділі) повинні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мати сертифікати за спеціалізацією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діяльність з управління актив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6" name=""/>
          <p:cNvCxnSpPr>
            <a:stCxn id="243" idx="2"/>
            <a:endCxn id="244" idx="0"/>
          </p:cNvCxnSpPr>
          <p:nvPr/>
        </p:nvCxnSpPr>
        <p:spPr>
          <a:xfrm flipH="1">
            <a:off x="2410560" y="1483920"/>
            <a:ext cx="223452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stCxn id="243" idx="2"/>
            <a:endCxn id="245" idx="0"/>
          </p:cNvCxnSpPr>
          <p:nvPr/>
        </p:nvCxnSpPr>
        <p:spPr>
          <a:xfrm>
            <a:off x="4644720" y="1483920"/>
            <a:ext cx="2215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7640" y="277560"/>
            <a:ext cx="66963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Мінімальні вимоги щодо кількості сертифікованих осіб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562880" cy="431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Ліцензії на здійснення депозитарної діяльності ДУ, діяльності із зберігання активів ІСІ та зберігання активів П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1916280"/>
            <a:ext cx="7704000" cy="4465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 u="sng">
                <a:solidFill>
                  <a:srgbClr val="ffffff"/>
                </a:solidFill>
                <a:uFillTx/>
                <a:latin typeface="Arial"/>
              </a:rPr>
              <a:t>Бан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заявни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менше 5 сертифікованих фахівців (у тому числі керівні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осадові особи) за спеціалізацією депозитарна діяльність, 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тому числі 2 особи (керівник підрозділу по зберіганню актив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ІСІ та фахівець у вказаному підрозділі) повинні мати сертифікат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а спеціалізацією – діяльність з управління актив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Для відокремленого підрозділу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Не менше 3 фахівців (у тому числі керівна посадова особа) 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спеціалізацією депозитарна діяльність, в тому числі 2 особи (керів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дрозділу по зберіганню активів ІСІ та фахівець у вказано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ідрозділі) повинні мати сертифікати за спеціалізацією – діяльність 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правління активам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52" name=""/>
          <p:cNvCxnSpPr>
            <a:stCxn id="250" idx="2"/>
            <a:endCxn id="251" idx="0"/>
          </p:cNvCxnSpPr>
          <p:nvPr/>
        </p:nvCxnSpPr>
        <p:spPr>
          <a:xfrm>
            <a:off x="4608000" y="1484280"/>
            <a:ext cx="1080" cy="4327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08000" y="277560"/>
            <a:ext cx="67788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Асоційовані особи – члени сім'ї фізичної особи - власника з істотною участю у заявника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39640" y="1125360"/>
            <a:ext cx="813780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Асоційована особа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- чоловік або дружина, прямі родичі особи (батьк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ати, діти, рідні брати та сестри, дід, баба, онуки), прямі родичі чолові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чи дружини особи, чоловік або дружина прямого родич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39640" y="2421000"/>
            <a:ext cx="81378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Додаток 7 заповнюється щодо асоційованих осіб прямих власникі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Arial"/>
              </a:rPr>
              <a:t>істотної участі у заявника (ліцензіата), які є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4360" y="3500280"/>
            <a:ext cx="2519280" cy="1657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1. Власниками істотної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часті  або керівника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членами наглядової рад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ерівниками служб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нутрішнього аудиту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 заявнику (ліцензіаті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348000" y="3500280"/>
            <a:ext cx="2519280" cy="1657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2. Власниками істотної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часті  або керівника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членами наглядової рад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керівниками служб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нутрішнього аудиту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в інших фінансов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станова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012000" y="3500280"/>
            <a:ext cx="2663640" cy="1657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3. Власниками істотної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участі в інших юридичн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собах, які є пов'язаним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особами відносно заявник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ff"/>
                </a:solidFill>
                <a:latin typeface="Arial"/>
              </a:rPr>
              <a:t>(ліцензіат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0" name=""/>
          <p:cNvCxnSpPr>
            <a:stCxn id="256" idx="2"/>
            <a:endCxn id="258" idx="0"/>
          </p:cNvCxnSpPr>
          <p:nvPr/>
        </p:nvCxnSpPr>
        <p:spPr>
          <a:xfrm>
            <a:off x="4608000" y="3213000"/>
            <a:ext cx="1080" cy="288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6" idx="2"/>
            <a:endCxn id="257" idx="0"/>
          </p:cNvCxnSpPr>
          <p:nvPr/>
        </p:nvCxnSpPr>
        <p:spPr>
          <a:xfrm flipH="1">
            <a:off x="1944000" y="3213000"/>
            <a:ext cx="2664360" cy="288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6" idx="2"/>
            <a:endCxn id="259" idx="0"/>
          </p:cNvCxnSpPr>
          <p:nvPr/>
        </p:nvCxnSpPr>
        <p:spPr>
          <a:xfrm>
            <a:off x="4608360" y="3213000"/>
            <a:ext cx="2736000" cy="288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79280" y="277920"/>
            <a:ext cx="670716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cecff"/>
                </a:solidFill>
                <a:latin typeface="Arial"/>
              </a:rPr>
              <a:t>Внутрішні положення заявника, що подаються для отримання ліцензії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81280" cy="8190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68360" y="1197000"/>
            <a:ext cx="82803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Копія внутрішнє положення про депозитарну діяльність депозитарної установ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1916280"/>
            <a:ext cx="8642160" cy="46814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Документ має містити, зокрем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організаційно-функціональну схему підрозділів депозитарної установи, яка повинна відобрази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завдання, що на них покладені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ерелік та форми вхідних та вихідних документі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рядок приймання депонентів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умови та порядок відкриття та закриття рахунку в цінних папера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ідстави для відмови у відкритті рахунку в цінних папера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рядок оформлення, подання та приймання розпоряджень і документів від депоненті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ідстави для відмови у прийманні розпоряджень до виконанн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рядок надання депонентам виписок, довідок та іншої інформації, а також порядок обмін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відомленнями з депонентам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ерелік депозитарних операцій, що виконуються депозитарною установою та загальний порядок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їх проведення 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ерелік та вартість послуг, що надаються депонентам (якщо це не вказано в окремо затверджен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тарифів депозитарної установ), який може містити розмір плати, зокрема, за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відкриття/закриття рахунку в цінних папера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внесення змін до анкети рахунку в цінних паперах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облік прав на цінні папери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видачу виписок з рахунка в цінних паперах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відображення корпоративних операції емітента на рахунку у цінних паперах депонент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роведення операції блокування/розблокування цінних паперів на рахунку у цінних паперах депонента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роведення операції списання/зарахування/переказу прав на цінні папери на рахунку у цінн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аперах депонент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</a:rPr>
              <a:t>порядок обслуговування активів ІСІ та НПФ (за наявності відповідних ліцензі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1197000"/>
            <a:ext cx="8642160" cy="503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Копія Внутрішнього положення про депозитарну діяльність депозитарної установ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1T12:02:57Z</dcterms:created>
  <dc:creator>sergey.lastivka</dc:creator>
  <dc:description/>
  <dc:language>en-US</dc:language>
  <cp:lastModifiedBy>sergey.lastivka</cp:lastModifiedBy>
  <dcterms:modified xsi:type="dcterms:W3CDTF">2013-07-10T14:42:36Z</dcterms:modified>
  <cp:revision>11</cp:revision>
  <dc:subject/>
  <dc:title>Компенсаторні механізми у процесі затвердження Правил та внутрішніх документів ЦД</dc:title>
</cp:coreProperties>
</file>